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1D7-4F2E-4FDE-B758-7708B6DE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D51-FA73-4A9F-B0F4-F1ED9BF2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061-8F89-4556-A2BC-F1875245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9F2-82C0-4361-B2DF-340234A5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3D7F-C5F2-4B9A-87BA-EA7461F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F455-12D5-4550-8755-D31D23F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31CF-AD66-494F-9273-FF17D20F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BB82-CC66-41CD-8AD7-A9CF1FF0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DEE-8979-4A1A-AED9-F04B55B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F4D8-101F-4002-AFF0-3D9764F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DA4-CB9E-486C-AAC3-2C9DAEA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FC5-486C-4318-AA3E-A4BCBCD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B6E-D88C-4139-979E-305592E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BE9-0A44-434B-949C-9E4DFDB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E8BB-9A45-46E9-8DBC-2D753B3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EFE0-3340-4255-8D7E-DE84E714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8B26-B0BE-4ED5-A862-E1E58FFE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EC5-F99D-49EF-8CAF-F8FF3BBB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2F0-F312-43EA-BC78-4BDB66F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513-D94A-4A48-B37D-74DE286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89C-19EB-45E7-B9C1-2868A9D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C1D-F9FC-4AB8-88C5-5F4CD9F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2DF-9D41-47FF-9803-F4C74C0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F5B-AF76-4C4B-B9ED-610EA3C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30F9-EC3A-444D-A62B-784D77F113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DFD-5A12-4EDC-890A-296245193CA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pol.tcnj.edu/amer_pol_hist/thumbnail434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49, Communists in China led b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o Zedo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n Chinese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"Peoples Republic of China"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"Red China"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49, Soviets successfully test atomic bom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erlin Wall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 in 196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 million East Germans escaped to West Berlin between 1949-1961; Soviets frustra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threatened President Kennedy: USSR would sign peace treaty with East Germany who would then control access to Berlin; Soviets would protect East Germany’s right to control flow into Berl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rlin Wall built instead of enforcing ultimatum to U.S.; ended future crises over Berl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10" descr="walltalk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Members-BerlinWall"/>
          <p:cNvPicPr/>
          <p:nvPr/>
        </p:nvPicPr>
        <p:blipFill>
          <a:blip r:embed="rId2"/>
          <a:stretch/>
        </p:blipFill>
        <p:spPr>
          <a:xfrm>
            <a:off x="4191120" y="3352680"/>
            <a:ext cx="464796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came a communist country in 1959 under leadership of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idel Cast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ba became an ally of the Soviet Un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ay of Pigs Invas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1961: U.S.-trained Cuban exiles tried unsuccessfully to invade Cub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62: U.S. demanded Soviets remove their newly installed nuclear missiles from Cub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sis became the closest USSR and US came to nuclear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laced blockade (naval quarantine) on any further missiles into Cu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agreed to remove missiles in return for U.S. removing its missiles from Turkey and vowing not to invade Cuba in the fu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sis weakened Khrushchev and contributed to his downfall in 196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6" descr="phot_1962_cmissilecrisis"/>
          <p:cNvPicPr/>
          <p:nvPr/>
        </p:nvPicPr>
        <p:blipFill>
          <a:blip r:embed="rId1"/>
          <a:stretch/>
        </p:blipFill>
        <p:spPr>
          <a:xfrm>
            <a:off x="380880" y="1523880"/>
            <a:ext cx="4572000" cy="349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CubaMap1b_w"/>
          <p:cNvPicPr/>
          <p:nvPr/>
        </p:nvPicPr>
        <p:blipFill>
          <a:blip r:embed="rId2"/>
          <a:stretch/>
        </p:blipFill>
        <p:spPr>
          <a:xfrm>
            <a:off x="4648320" y="2971800"/>
            <a:ext cx="40622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ietnam War (1964-197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fought unsuccessful war in Southeast Asia to prevent communism from spreading into South Vietn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omino Theor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U.S. believed if Vietnam fell to communism, Laos, Cambodia and Thailand would also fall (perhaps even India) (1964-1973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orean War 1950-195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ter WWII, Korea divided at 38th parallel: North was communist, South was n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aus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 1950, North Korea invaded South Korea (supported by Soviet resourc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(led by US &amp;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n. Douglas MacArthu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 sent forces to push back communi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viets boycotting UN for U.S. refusal to allow "Red China" into UN Security Counc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ina sends hundreds of thousands of troops to push back U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 cease-fire and border at 38th parallel restored; still in existence tod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usmc1950"/>
          <p:cNvPicPr/>
          <p:nvPr/>
        </p:nvPicPr>
        <p:blipFill>
          <a:blip r:embed="rId1"/>
          <a:stretch/>
        </p:blipFill>
        <p:spPr>
          <a:xfrm>
            <a:off x="677880" y="1598760"/>
            <a:ext cx="3591000" cy="449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woman%20and%20child"/>
          <p:cNvPicPr/>
          <p:nvPr/>
        </p:nvPicPr>
        <p:blipFill>
          <a:blip r:embed="rId2"/>
          <a:stretch/>
        </p:blipFill>
        <p:spPr>
          <a:xfrm>
            <a:off x="4572000" y="2209680"/>
            <a:ext cx="3919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ydrogen Bom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ed by US in 1952 &amp; USSR in 1953: world now has two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uperpow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castle"/>
          <p:cNvPicPr/>
          <p:nvPr/>
        </p:nvPicPr>
        <p:blipFill>
          <a:blip r:embed="rId1"/>
          <a:stretch/>
        </p:blipFill>
        <p:spPr>
          <a:xfrm>
            <a:off x="2362320" y="2819520"/>
            <a:ext cx="4402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arsaw Pac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955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ctive security organization of eastern bloc nations to counter N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olicy of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"massive retaliation"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1953-5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olicy now is to help eastern European countries remove communis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vows to destroy USSR with nuclear weapons if it tries to exp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rinksmansh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the art of going to the brink of war to force the other side t back dow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lations b/n USSR &amp; U.S. Improve w/ Ascension to power of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ikita Khrushchev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ek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eaceful coexistenc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West in order to focus on Soviet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ustrian Independe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USSR agreed in 1955 to real independence for a neutral Austria after 10 years of Allied occup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ed in significant reduction in cold war tensions between 1955 &amp; 1957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lations b/n USSR &amp; U.S. Improve w/ Ascension to power of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ikita Khrushchev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rushchev sought to prove communism was superior to capitalism and the USSR would be the model communist state in the world;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"we will bury you.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rushchev began wooing new nations of Asia and Africa with promises and aid, even if they were not commun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eneva Summit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-- 1955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Jul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 meets with USSR, Britain, &amp; France to begin discussions on European security and disarmament; no agreements ma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58, relations sour with Khrushchev's ultimatum for Allies to leave Berlin: 6 month deadline passes without incident, extended indefinitel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672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old War in 1960’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7" descr="Kennedy and Khrushchev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45720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-2 Incide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spy plane shot down over USS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demanded an apology from Eisenhower; Eisenhower refu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and Eisenhower abor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5" descr="u2"/>
          <p:cNvPicPr/>
          <p:nvPr/>
        </p:nvPicPr>
        <p:blipFill>
          <a:blip r:embed="rId1"/>
          <a:stretch/>
        </p:blipFill>
        <p:spPr>
          <a:xfrm>
            <a:off x="4800600" y="2133720"/>
            <a:ext cx="39099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7:22:52Z</dcterms:created>
  <dc:creator>Preferred Customer</dc:creator>
  <dc:description/>
  <dc:language>en-US</dc:language>
  <cp:lastModifiedBy> </cp:lastModifiedBy>
  <dcterms:modified xsi:type="dcterms:W3CDTF">2008-07-28T03:30:19Z</dcterms:modified>
  <cp:revision>5</cp:revision>
  <dc:subject/>
  <dc:title>Cold War &amp; Recovery</dc:title>
</cp:coreProperties>
</file>